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gif" ContentType="image/gif"/>
  <Override PartName="/ppt/media/image27.wmf" ContentType="image/x-wmf"/>
  <Override PartName="/ppt/media/image25.png" ContentType="image/png"/>
  <Override PartName="/ppt/media/image2.gif" ContentType="image/gif"/>
  <Override PartName="/ppt/media/image32.gif" ContentType="image/gif"/>
  <Override PartName="/ppt/media/image23.png" ContentType="image/png"/>
  <Override PartName="/ppt/media/image30.gif" ContentType="image/gif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9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9.gif" ContentType="image/gif"/>
  <Override PartName="/ppt/media/image13.png" ContentType="image/png"/>
  <Override PartName="/ppt/media/image10.gif" ContentType="image/gif"/>
  <Override PartName="/ppt/media/image8.gif" ContentType="image/gif"/>
  <Override PartName="/ppt/media/image37.gif" ContentType="image/gif"/>
  <Override PartName="/ppt/media/image42.png" ContentType="image/png"/>
  <Override PartName="/ppt/media/image38.png" ContentType="image/png"/>
  <Override PartName="/ppt/media/image35.gif" ContentType="image/gif"/>
  <Override PartName="/ppt/media/image11.gif" ContentType="image/gif"/>
  <Override PartName="/ppt/media/image39.png" ContentType="image/png"/>
  <Override PartName="/ppt/media/image36.gif" ContentType="image/gif"/>
  <Override PartName="/ppt/media/image6.gif" ContentType="image/gif"/>
  <Override PartName="/ppt/media/image14.png" ContentType="image/png"/>
  <Override PartName="/ppt/media/image21.gif" ContentType="image/gif"/>
  <Override PartName="/ppt/media/image31.gif" ContentType="image/gif"/>
  <Override PartName="/ppt/media/image24.png" ContentType="image/png"/>
  <Override PartName="/ppt/media/image43.jpeg" ContentType="image/jpeg"/>
  <Override PartName="/ppt/media/image5.png" ContentType="image/png"/>
  <Override PartName="/ppt/media/image34.png" ContentType="image/png"/>
  <Override PartName="/ppt/media/image41.gif" ContentType="image/gif"/>
  <Override PartName="/ppt/media/image4.png" ContentType="image/png"/>
  <Override PartName="/ppt/media/image40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1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4B15-E256-417E-8CAA-39A80FBFB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89A0-F054-46B0-AE47-2A437D84C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4137-82B0-41F9-90A5-D9D174AB3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5127-DA3E-424B-ABF7-A4D3535EC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AF3A-A2B6-4C80-8E3E-89F9B1E75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ED35-FF38-482D-9991-51EAFC3C0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BD8D-7702-4A47-A3A8-4882BCAA2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0B89-D394-4B97-8D2D-B45E1D71C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6701-D4AE-4664-B389-2CF37FC36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10EE-8852-4076-B5FC-83A2AD130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55E-435D-4BBC-A6DD-521E8045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3C9-22B9-402B-9807-4A4E0C62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108-B46C-4090-AB52-49071A6E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B73-95B2-4BCF-BF17-4AC0ED77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A34-E2F3-4365-9EE6-F5ED47C1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E3C-1415-4530-8D77-29DC2F6F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827-A6C6-48DB-99CB-6B7E83F5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781-9841-41D7-8307-BEFD2C4B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AF5-4948-42CE-9085-C7F1B31A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BC3-95A3-41D8-BD01-CB54E7EF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1FC-440D-4072-8955-FE94A700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9DD-4EB3-4826-A426-84C248FA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60F7-62D2-4FF6-B23B-5414B301C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office.microsoft.com/en-us/images/results.aspx?ex=2&amp;qu=girl#mt:3" TargetMode="External"/><Relationship Id="rId3" Type="http://schemas.openxmlformats.org/officeDocument/2006/relationships/hyperlink" Target="http://office.microsoft.com/en-us/images/results.aspx?ex=2&amp;qu=girl#mt:3" TargetMode="External"/><Relationship Id="rId4" Type="http://schemas.openxmlformats.org/officeDocument/2006/relationships/hyperlink" Target="http://office.microsoft.com/en-us/images/results.aspx?qu=dog%20bone&amp;ctt=1#mt:1|" TargetMode="External"/><Relationship Id="rId5" Type="http://schemas.openxmlformats.org/officeDocument/2006/relationships/hyperlink" Target="http://office.microsoft.com/en-us/images/results.aspx?qu=dog%20bone&amp;ctt=1#mt:1|" TargetMode="External"/><Relationship Id="rId6" Type="http://schemas.openxmlformats.org/officeDocument/2006/relationships/hyperlink" Target="http://office.microsoft.com/en-us/images/results.aspx?qu=flowers&amp;ctt=1#mt:1|" TargetMode="External"/><Relationship Id="rId7" Type="http://schemas.openxmlformats.org/officeDocument/2006/relationships/hyperlink" Target="http://office.microsoft.com/en-us/images/results.aspx?qu=flowers&amp;ctt=1#mt:1|" TargetMode="External"/><Relationship Id="rId8" Type="http://schemas.openxmlformats.org/officeDocument/2006/relationships/hyperlink" Target="http://office.microsoft.com/en-us/images/results.aspx?qu=flower%20blooming&amp;ctt=1#mt:3|" TargetMode="External"/><Relationship Id="rId9" Type="http://schemas.openxmlformats.org/officeDocument/2006/relationships/hyperlink" Target="http://office.microsoft.com/en-us/images/results.aspx?qu=flower%20blooming&amp;ctt=1#mt:3|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6.gif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5.wmf"/><Relationship Id="rId5" Type="http://schemas.openxmlformats.org/officeDocument/2006/relationships/image" Target="../media/image16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gif"/><Relationship Id="rId5" Type="http://schemas.openxmlformats.org/officeDocument/2006/relationships/image" Target="../media/image29.wmf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image" Target="../media/image32.gif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gif"/><Relationship Id="rId12" Type="http://schemas.openxmlformats.org/officeDocument/2006/relationships/image" Target="../media/image36.gif"/><Relationship Id="rId13" Type="http://schemas.openxmlformats.org/officeDocument/2006/relationships/image" Target="../media/image37.gif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6.gif"/><Relationship Id="rId6" Type="http://schemas.openxmlformats.org/officeDocument/2006/relationships/image" Target="../media/image8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gary\AppData\Local\Microsoft\Windows\Temporary Internet Files\Content.IE5\KPRRPU1U\MM900173982[1].gif"/>
          <p:cNvPicPr/>
          <p:nvPr/>
        </p:nvPicPr>
        <p:blipFill>
          <a:blip r:embed="rId2"/>
          <a:stretch/>
        </p:blipFill>
        <p:spPr>
          <a:xfrm>
            <a:off x="5410080" y="6858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ary\AppData\Local\Microsoft\Windows\Temporary Internet Files\Content.IE5\KPRRPU1U\MM900173982[1].gif"/>
          <p:cNvPicPr/>
          <p:nvPr/>
        </p:nvPicPr>
        <p:blipFill>
          <a:blip r:embed="rId3"/>
          <a:stretch/>
        </p:blipFill>
        <p:spPr>
          <a:xfrm>
            <a:off x="2057400" y="6858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gary\AppData\Local\Microsoft\Windows\Temporary Internet Files\Content.IE5\KPRRPU1U\MM900173982[1].gif"/>
          <p:cNvPicPr/>
          <p:nvPr/>
        </p:nvPicPr>
        <p:blipFill>
          <a:blip r:embed="rId4"/>
          <a:stretch/>
        </p:blipFill>
        <p:spPr>
          <a:xfrm>
            <a:off x="3886200" y="76212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gary\AppData\Local\Microsoft\Windows\Temporary Internet Files\Content.IE5\KPRRPU1U\MM900173982[1].gif"/>
          <p:cNvPicPr/>
          <p:nvPr/>
        </p:nvPicPr>
        <p:blipFill>
          <a:blip r:embed="rId5"/>
          <a:stretch/>
        </p:blipFill>
        <p:spPr>
          <a:xfrm>
            <a:off x="5791320" y="4572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gary\AppData\Local\Microsoft\Windows\Temporary Internet Files\Content.IE5\KPRRPU1U\MM900173982[1].gif"/>
          <p:cNvPicPr/>
          <p:nvPr/>
        </p:nvPicPr>
        <p:blipFill>
          <a:blip r:embed="rId6"/>
          <a:stretch/>
        </p:blipFill>
        <p:spPr>
          <a:xfrm>
            <a:off x="2895480" y="4572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gary\AppData\Local\Microsoft\Windows\Temporary Internet Files\Content.IE5\KPRRPU1U\MM900173982[1].gif"/>
          <p:cNvPicPr/>
          <p:nvPr/>
        </p:nvPicPr>
        <p:blipFill>
          <a:blip r:embed="rId7"/>
          <a:stretch/>
        </p:blipFill>
        <p:spPr>
          <a:xfrm>
            <a:off x="6858000" y="6094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gary\AppData\Local\Microsoft\Windows\Temporary Internet Files\Content.IE5\KPRRPU1U\MM900173982[1].gif"/>
          <p:cNvPicPr/>
          <p:nvPr/>
        </p:nvPicPr>
        <p:blipFill>
          <a:blip r:embed="rId8"/>
          <a:stretch/>
        </p:blipFill>
        <p:spPr>
          <a:xfrm>
            <a:off x="3048120" y="6094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gary\AppData\Local\Microsoft\Windows\Temporary Internet Files\Content.IE5\KPRRPU1U\MM900173982[1].gif"/>
          <p:cNvPicPr/>
          <p:nvPr/>
        </p:nvPicPr>
        <p:blipFill>
          <a:blip r:embed="rId9"/>
          <a:stretch/>
        </p:blipFill>
        <p:spPr>
          <a:xfrm>
            <a:off x="6781680" y="3808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gary\AppData\Local\Microsoft\Windows\Temporary Internet Files\Content.IE5\KPRRPU1U\MM900173982[1].gif"/>
          <p:cNvPicPr/>
          <p:nvPr/>
        </p:nvPicPr>
        <p:blipFill>
          <a:blip r:embed="rId10"/>
          <a:stretch/>
        </p:blipFill>
        <p:spPr>
          <a:xfrm>
            <a:off x="4343400" y="3808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gary\AppData\Local\Microsoft\Windows\Temporary Internet Files\Content.IE5\KPRRPU1U\MM900173982[1].gif"/>
          <p:cNvPicPr/>
          <p:nvPr/>
        </p:nvPicPr>
        <p:blipFill>
          <a:blip r:embed="rId11"/>
          <a:stretch/>
        </p:blipFill>
        <p:spPr>
          <a:xfrm>
            <a:off x="1447920" y="4572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2"/>
          <a:stretch/>
        </p:blipFill>
        <p:spPr>
          <a:xfrm>
            <a:off x="83818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rah Crawf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-204840"/>
            <a:ext cx="9144000" cy="7062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 Girl pictures, 4/13/12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2"/>
              </a:rPr>
              <a:t>http://office.microsoft.com/en-us/images/results.aspx?ex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3"/>
              </a:rPr>
              <a:t>=2&amp;qu=girl#mt: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Rain Pictures 4/13/12, http://office.microsoft.com/en-us/images/results.aspx?qu=rain&amp;ctt=1#mt: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Dog 4/13/12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4"/>
              </a:rPr>
              <a:t>http://office.microsoft.com/en-us/images/results.aspx?q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5"/>
              </a:rPr>
              <a:t>=dog%20bone&amp;ctt=1#mt:1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Flower 4/13/12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6"/>
              </a:rPr>
              <a:t>http://office.microsoft.com/en-us/images/results.aspx?q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7"/>
              </a:rPr>
              <a:t>=flowers&amp;ctt=1#mt:1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Flower 4/13/12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8"/>
              </a:rPr>
              <a:t>http://office.microsoft.com/en-us/images/results.aspx?q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Bauhaus 93"/>
                <a:hlinkClick r:id="rId9"/>
              </a:rPr>
              <a:t>=flower%20blooming&amp;ctt=1#mt:3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Bed 4/13/12, http://office.microsoft.com/en-us/images/results.aspx?qu=bed&amp;ctt=1#pg:4|mt:1|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icrosoft, Footprint 4/13/12, http://office.microsoft.com/en-us/images/results.aspx?qu=footprint&amp;ctt=1#mt:1|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Music: Free Play Music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Bauhaus 93"/>
              </a:rPr>
              <a:t>Downfall,4/412  http://freeplaymusic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  <a:ea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4800600"/>
            <a:ext cx="1828800" cy="838080"/>
          </a:xfrm>
          <a:prstGeom prst="cloudCallout">
            <a:avLst>
              <a:gd name="adj1" fmla="val -143231"/>
              <a:gd name="adj2" fmla="val 5115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hh! A Cat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304920"/>
            <a:ext cx="1828800" cy="838080"/>
          </a:xfrm>
          <a:prstGeom prst="cloudCallout">
            <a:avLst>
              <a:gd name="adj1" fmla="val -53560"/>
              <a:gd name="adj2" fmla="val 7859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just want to play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extBox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522680" cy="151128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5" descr=""/>
          <p:cNvPicPr/>
          <p:nvPr/>
        </p:nvPicPr>
        <p:blipFill>
          <a:blip r:embed="rId2"/>
          <a:stretch/>
        </p:blipFill>
        <p:spPr>
          <a:xfrm>
            <a:off x="1170000" y="4340160"/>
            <a:ext cx="7602480" cy="1652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gary\AppData\Local\Microsoft\Windows\Temporary Internet Files\Content.IE5\FINVI7XY\MM900173982[1].gif"/>
          <p:cNvPicPr/>
          <p:nvPr/>
        </p:nvPicPr>
        <p:blipFill>
          <a:blip r:embed="rId3"/>
          <a:stretch/>
        </p:blipFill>
        <p:spPr>
          <a:xfrm>
            <a:off x="6858000" y="609480"/>
            <a:ext cx="1541520" cy="905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gary\AppData\Local\Microsoft\Windows\Temporary Internet Files\Content.IE5\KPRRPU1U\MM900173982[1].gif"/>
          <p:cNvPicPr/>
          <p:nvPr/>
        </p:nvPicPr>
        <p:blipFill>
          <a:blip r:embed="rId4"/>
          <a:stretch/>
        </p:blipFill>
        <p:spPr>
          <a:xfrm>
            <a:off x="2895480" y="4572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gary\AppData\Local\Microsoft\Windows\Temporary Internet Files\Content.IE5\KPRRPU1U\MM900173982[1].gif"/>
          <p:cNvPicPr/>
          <p:nvPr/>
        </p:nvPicPr>
        <p:blipFill>
          <a:blip r:embed="rId5"/>
          <a:stretch/>
        </p:blipFill>
        <p:spPr>
          <a:xfrm>
            <a:off x="685800" y="30492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gary\AppData\Local\Microsoft\Windows\Temporary Internet Files\Content.IE5\KPRRPU1U\MM900173982[1].gif"/>
          <p:cNvPicPr/>
          <p:nvPr/>
        </p:nvPicPr>
        <p:blipFill>
          <a:blip r:embed="rId6"/>
          <a:stretch/>
        </p:blipFill>
        <p:spPr>
          <a:xfrm>
            <a:off x="1523880" y="1522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gary\AppData\Local\Microsoft\Windows\Temporary Internet Files\Content.IE5\KPRRPU1U\MM900173982[1].gif"/>
          <p:cNvPicPr/>
          <p:nvPr/>
        </p:nvPicPr>
        <p:blipFill>
          <a:blip r:embed="rId7"/>
          <a:stretch/>
        </p:blipFill>
        <p:spPr>
          <a:xfrm>
            <a:off x="5867280" y="30492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gary\AppData\Local\Microsoft\Windows\Temporary Internet Files\Content.IE5\KPRRPU1U\MM900173982[1].gif"/>
          <p:cNvPicPr/>
          <p:nvPr/>
        </p:nvPicPr>
        <p:blipFill>
          <a:blip r:embed="rId8"/>
          <a:stretch/>
        </p:blipFill>
        <p:spPr>
          <a:xfrm>
            <a:off x="3886200" y="30492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gary\AppData\Local\Microsoft\Windows\Temporary Internet Files\Content.IE5\KPRRPU1U\MM900173982[1].gif"/>
          <p:cNvPicPr/>
          <p:nvPr/>
        </p:nvPicPr>
        <p:blipFill>
          <a:blip r:embed="rId9"/>
          <a:stretch/>
        </p:blipFill>
        <p:spPr>
          <a:xfrm>
            <a:off x="3657600" y="30492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gary\AppData\Local\Microsoft\Windows\Temporary Internet Files\Content.IE5\KPRRPU1U\MM900173982[1].gif"/>
          <p:cNvPicPr/>
          <p:nvPr/>
        </p:nvPicPr>
        <p:blipFill>
          <a:blip r:embed="rId10"/>
          <a:stretch/>
        </p:blipFill>
        <p:spPr>
          <a:xfrm>
            <a:off x="2743200" y="1522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gary\AppData\Local\Microsoft\Windows\Temporary Internet Files\Content.IE5\KPRRPU1U\MM900173982[1].gif"/>
          <p:cNvPicPr/>
          <p:nvPr/>
        </p:nvPicPr>
        <p:blipFill>
          <a:blip r:embed="rId11"/>
          <a:stretch/>
        </p:blipFill>
        <p:spPr>
          <a:xfrm>
            <a:off x="4800600" y="53352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Users\gary\AppData\Local\Microsoft\Windows\Temporary Internet Files\Content.IE5\KPRRPU1U\MM900173982[1].gif"/>
          <p:cNvPicPr/>
          <p:nvPr/>
        </p:nvPicPr>
        <p:blipFill>
          <a:blip r:embed="rId12"/>
          <a:stretch/>
        </p:blipFill>
        <p:spPr>
          <a:xfrm>
            <a:off x="5257800" y="457200"/>
            <a:ext cx="1611360" cy="1082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gary\AppData\Local\Microsoft\Windows\Temporary Internet Files\Content.IE5\KPRRPU1U\MM900173982[1].gif"/>
          <p:cNvPicPr/>
          <p:nvPr/>
        </p:nvPicPr>
        <p:blipFill>
          <a:blip r:embed="rId13"/>
          <a:stretch/>
        </p:blipFill>
        <p:spPr>
          <a:xfrm flipH="1">
            <a:off x="6411960" y="762120"/>
            <a:ext cx="158760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gary\AppData\Local\Microsoft\Windows\Temporary Internet Files\Content.IE5\KPRRPU1U\MM900173982[1].gif"/>
          <p:cNvPicPr/>
          <p:nvPr/>
        </p:nvPicPr>
        <p:blipFill>
          <a:blip r:embed="rId14"/>
          <a:stretch/>
        </p:blipFill>
        <p:spPr>
          <a:xfrm>
            <a:off x="1981080" y="3808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gary\AppData\Local\Microsoft\Windows\Temporary Internet Files\Content.IE5\KPRRPU1U\MM900173982[1].gif"/>
          <p:cNvPicPr/>
          <p:nvPr/>
        </p:nvPicPr>
        <p:blipFill>
          <a:blip r:embed="rId15"/>
          <a:stretch/>
        </p:blipFill>
        <p:spPr>
          <a:xfrm>
            <a:off x="5715000" y="6094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gary\AppData\Local\Microsoft\Windows\Temporary Internet Files\Content.IE5\KPRRPU1U\MM900173982[1].gif"/>
          <p:cNvPicPr/>
          <p:nvPr/>
        </p:nvPicPr>
        <p:blipFill>
          <a:blip r:embed="rId16"/>
          <a:stretch/>
        </p:blipFill>
        <p:spPr>
          <a:xfrm>
            <a:off x="4876920" y="152280"/>
            <a:ext cx="1611360" cy="1082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gary\AppData\Local\Microsoft\Windows\Temporary Internet Files\Content.IE5\FINVI7XY\MM900283677[1].gif"/>
          <p:cNvPicPr/>
          <p:nvPr/>
        </p:nvPicPr>
        <p:blipFill>
          <a:blip r:embed="rId17"/>
          <a:stretch/>
        </p:blipFill>
        <p:spPr>
          <a:xfrm>
            <a:off x="3809880" y="2743200"/>
            <a:ext cx="1943280" cy="126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Users\gary\AppData\Local\Microsoft\Windows\Temporary Internet Files\Content.IE5\FINVI7XY\MC900052881[1].wmf"/>
          <p:cNvPicPr/>
          <p:nvPr/>
        </p:nvPicPr>
        <p:blipFill>
          <a:blip r:embed="rId18"/>
          <a:stretch/>
        </p:blipFill>
        <p:spPr>
          <a:xfrm>
            <a:off x="4648320" y="5638680"/>
            <a:ext cx="7380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lowchart: Delay 31"/>
          <p:cNvSpPr/>
          <p:nvPr/>
        </p:nvSpPr>
        <p:spPr>
          <a:xfrm rot="16200000">
            <a:off x="7124760" y="1104480"/>
            <a:ext cx="533160" cy="1219320"/>
          </a:xfrm>
          <a:prstGeom prst="flowChartDelay">
            <a:avLst/>
          </a:prstGeom>
          <a:solidFill>
            <a:srgbClr val="4f6228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gary\AppData\Local\Microsoft\Windows\Temporary Internet Files\Content.IE5\KPRRPU1U\MM900236492[1].gif"/>
          <p:cNvPicPr/>
          <p:nvPr/>
        </p:nvPicPr>
        <p:blipFill>
          <a:blip r:embed="rId1"/>
          <a:stretch/>
        </p:blipFill>
        <p:spPr>
          <a:xfrm>
            <a:off x="5334120" y="3809880"/>
            <a:ext cx="121896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gary\AppData\Local\Microsoft\Windows\Temporary Internet Files\Content.IE5\6R1U224W\MM900283653[1].gif"/>
          <p:cNvPicPr/>
          <p:nvPr/>
        </p:nvPicPr>
        <p:blipFill>
          <a:blip r:embed="rId2"/>
          <a:stretch/>
        </p:blipFill>
        <p:spPr>
          <a:xfrm>
            <a:off x="6477120" y="4952880"/>
            <a:ext cx="1128600" cy="1011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gary\AppData\Local\Microsoft\Windows\Temporary Internet Files\Content.IE5\JLQQ5FD0\MM900283634[1].gif"/>
          <p:cNvPicPr/>
          <p:nvPr/>
        </p:nvPicPr>
        <p:blipFill>
          <a:blip r:embed="rId3"/>
          <a:stretch/>
        </p:blipFill>
        <p:spPr>
          <a:xfrm>
            <a:off x="5257800" y="2286000"/>
            <a:ext cx="1528920" cy="1076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gary\AppData\Local\Microsoft\Windows\Temporary Internet Files\Content.IE5\KPRRPU1U\MM900236473[1].gif"/>
          <p:cNvPicPr/>
          <p:nvPr/>
        </p:nvPicPr>
        <p:blipFill>
          <a:blip r:embed="rId4"/>
          <a:stretch/>
        </p:blipFill>
        <p:spPr>
          <a:xfrm>
            <a:off x="6477120" y="3200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8" descr=""/>
          <p:cNvPicPr/>
          <p:nvPr/>
        </p:nvPicPr>
        <p:blipFill>
          <a:blip r:embed="rId5"/>
          <a:stretch/>
        </p:blipFill>
        <p:spPr>
          <a:xfrm>
            <a:off x="450720" y="291960"/>
            <a:ext cx="69501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9" descr=""/>
          <p:cNvPicPr/>
          <p:nvPr/>
        </p:nvPicPr>
        <p:blipFill>
          <a:blip r:embed="rId6"/>
          <a:stretch/>
        </p:blipFill>
        <p:spPr>
          <a:xfrm>
            <a:off x="1438200" y="1359000"/>
            <a:ext cx="4097520" cy="14810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0" descr=""/>
          <p:cNvPicPr/>
          <p:nvPr/>
        </p:nvPicPr>
        <p:blipFill>
          <a:blip r:embed="rId7"/>
          <a:stretch/>
        </p:blipFill>
        <p:spPr>
          <a:xfrm>
            <a:off x="1670040" y="3187800"/>
            <a:ext cx="3444840" cy="2774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Users\gary\AppData\Local\Microsoft\Windows\Temporary Internet Files\Content.IE5\KPRRPU1U\MM900173982[2].gif"/>
          <p:cNvPicPr/>
          <p:nvPr/>
        </p:nvPicPr>
        <p:blipFill>
          <a:blip r:embed="rId8"/>
          <a:stretch/>
        </p:blipFill>
        <p:spPr>
          <a:xfrm>
            <a:off x="6705720" y="762120"/>
            <a:ext cx="712800" cy="52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C:\Users\gary\AppData\Local\Microsoft\Windows\Temporary Internet Files\Content.IE5\KPRRPU1U\MM900173982[2].gif"/>
          <p:cNvPicPr/>
          <p:nvPr/>
        </p:nvPicPr>
        <p:blipFill>
          <a:blip r:embed="rId9"/>
          <a:stretch/>
        </p:blipFill>
        <p:spPr>
          <a:xfrm>
            <a:off x="7238880" y="762120"/>
            <a:ext cx="712800" cy="528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C:\Users\gary\AppData\Local\Microsoft\Windows\Temporary Internet Files\Content.IE5\KPRRPU1U\MM900173982[2].gif"/>
          <p:cNvPicPr/>
          <p:nvPr/>
        </p:nvPicPr>
        <p:blipFill>
          <a:blip r:embed="rId10"/>
          <a:stretch/>
        </p:blipFill>
        <p:spPr>
          <a:xfrm>
            <a:off x="7391520" y="762120"/>
            <a:ext cx="712800" cy="52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C:\Users\gary\AppData\Local\Microsoft\Windows\Temporary Internet Files\Content.IE5\KPRRPU1U\MM900173982[2].gif"/>
          <p:cNvPicPr/>
          <p:nvPr/>
        </p:nvPicPr>
        <p:blipFill>
          <a:blip r:embed="rId11"/>
          <a:stretch/>
        </p:blipFill>
        <p:spPr>
          <a:xfrm>
            <a:off x="7010280" y="914400"/>
            <a:ext cx="712800" cy="528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3"/>
          <p:cNvSpPr/>
          <p:nvPr/>
        </p:nvSpPr>
        <p:spPr>
          <a:xfrm>
            <a:off x="6705720" y="685800"/>
            <a:ext cx="75960" cy="137160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6781680" y="1981080"/>
            <a:ext cx="12956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5"/>
          <p:cNvSpPr/>
          <p:nvPr/>
        </p:nvSpPr>
        <p:spPr>
          <a:xfrm rot="16200000">
            <a:off x="7391520" y="1295280"/>
            <a:ext cx="129528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6781680" y="685800"/>
            <a:ext cx="12956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7"/>
          <p:cNvSpPr/>
          <p:nvPr/>
        </p:nvSpPr>
        <p:spPr>
          <a:xfrm rot="5400000">
            <a:off x="6781320" y="1371600"/>
            <a:ext cx="1295280" cy="7596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6781680" y="1295280"/>
            <a:ext cx="12956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C:\Users\gary\AppData\Local\Microsoft\Windows\Temporary Internet Files\Content.IE5\FINVI7XY\MC900016713[1].wmf"/>
          <p:cNvPicPr/>
          <p:nvPr/>
        </p:nvPicPr>
        <p:blipFill>
          <a:blip r:embed="rId1"/>
          <a:stretch/>
        </p:blipFill>
        <p:spPr>
          <a:xfrm>
            <a:off x="4648320" y="1295280"/>
            <a:ext cx="2898720" cy="289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Users\gary\AppData\Local\Microsoft\Windows\Temporary Internet Files\Content.IE5\JLQQ5FD0\MM900283629[1].gif"/>
          <p:cNvPicPr/>
          <p:nvPr/>
        </p:nvPicPr>
        <p:blipFill>
          <a:blip r:embed="rId2"/>
          <a:stretch/>
        </p:blipFill>
        <p:spPr>
          <a:xfrm>
            <a:off x="5943600" y="1828800"/>
            <a:ext cx="961920" cy="107460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22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992920" cy="72864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23" descr=""/>
          <p:cNvPicPr/>
          <p:nvPr/>
        </p:nvPicPr>
        <p:blipFill>
          <a:blip r:embed="rId4"/>
          <a:stretch/>
        </p:blipFill>
        <p:spPr>
          <a:xfrm>
            <a:off x="533520" y="838080"/>
            <a:ext cx="4286160" cy="89064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24" descr=""/>
          <p:cNvPicPr/>
          <p:nvPr/>
        </p:nvPicPr>
        <p:blipFill>
          <a:blip r:embed="rId5"/>
          <a:stretch/>
        </p:blipFill>
        <p:spPr>
          <a:xfrm>
            <a:off x="1523880" y="1981080"/>
            <a:ext cx="3140280" cy="66852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25" descr=""/>
          <p:cNvPicPr/>
          <p:nvPr/>
        </p:nvPicPr>
        <p:blipFill>
          <a:blip r:embed="rId6"/>
          <a:stretch/>
        </p:blipFill>
        <p:spPr>
          <a:xfrm>
            <a:off x="457200" y="4038480"/>
            <a:ext cx="447516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C:\Users\gary\AppData\Local\Microsoft\Windows\Temporary Internet Files\Content.IE5\FINVI7XY\MM900040901[1].gif"/>
          <p:cNvPicPr/>
          <p:nvPr/>
        </p:nvPicPr>
        <p:blipFill>
          <a:blip r:embed="rId7"/>
          <a:stretch/>
        </p:blipFill>
        <p:spPr>
          <a:xfrm>
            <a:off x="2057400" y="5181480"/>
            <a:ext cx="1512720" cy="933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47920" y="1676520"/>
            <a:ext cx="3352680" cy="1371600"/>
          </a:xfrm>
          <a:prstGeom prst="cloudCallout">
            <a:avLst>
              <a:gd name="adj1" fmla="val 80254"/>
              <a:gd name="adj2" fmla="val -16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7621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29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extBox 3" descr=""/>
          <p:cNvPicPr/>
          <p:nvPr/>
        </p:nvPicPr>
        <p:blipFill>
          <a:blip r:embed="rId1"/>
          <a:stretch/>
        </p:blipFill>
        <p:spPr>
          <a:xfrm>
            <a:off x="219240" y="139680"/>
            <a:ext cx="3743280" cy="363384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4" descr=""/>
          <p:cNvPicPr/>
          <p:nvPr/>
        </p:nvPicPr>
        <p:blipFill>
          <a:blip r:embed="rId2"/>
          <a:stretch/>
        </p:blipFill>
        <p:spPr>
          <a:xfrm>
            <a:off x="5437080" y="1828800"/>
            <a:ext cx="3487680" cy="23893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8" descr=""/>
          <p:cNvPicPr/>
          <p:nvPr/>
        </p:nvPicPr>
        <p:blipFill>
          <a:blip r:embed="rId3"/>
          <a:stretch/>
        </p:blipFill>
        <p:spPr>
          <a:xfrm>
            <a:off x="2481120" y="4309920"/>
            <a:ext cx="3108600" cy="217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gary\AppData\Local\Microsoft\Windows\Temporary Internet Files\Content.IE5\FINVI7XY\MC900016713[1].wmf"/>
          <p:cNvPicPr/>
          <p:nvPr/>
        </p:nvPicPr>
        <p:blipFill>
          <a:blip r:embed="rId4"/>
          <a:stretch/>
        </p:blipFill>
        <p:spPr>
          <a:xfrm>
            <a:off x="3276720" y="380880"/>
            <a:ext cx="2590560" cy="258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gary\AppData\Local\Microsoft\Windows\Temporary Internet Files\Content.IE5\JLQQ5FD0\MM900283629[1].gif"/>
          <p:cNvPicPr/>
          <p:nvPr/>
        </p:nvPicPr>
        <p:blipFill>
          <a:blip r:embed="rId5"/>
          <a:stretch/>
        </p:blipFill>
        <p:spPr>
          <a:xfrm>
            <a:off x="4419720" y="914400"/>
            <a:ext cx="914400" cy="102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Users\gary\AppData\Local\Microsoft\Windows\Temporary Internet Files\Content.IE5\6R1U224W\MM900040901[2].gif"/>
          <p:cNvPicPr/>
          <p:nvPr/>
        </p:nvPicPr>
        <p:blipFill>
          <a:blip r:embed="rId6"/>
          <a:stretch/>
        </p:blipFill>
        <p:spPr>
          <a:xfrm>
            <a:off x="3733920" y="1447920"/>
            <a:ext cx="137160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extBox 3" descr=""/>
          <p:cNvPicPr/>
          <p:nvPr/>
        </p:nvPicPr>
        <p:blipFill>
          <a:blip r:embed="rId1"/>
          <a:stretch/>
        </p:blipFill>
        <p:spPr>
          <a:xfrm>
            <a:off x="689040" y="249120"/>
            <a:ext cx="4956120" cy="70812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5" descr=""/>
          <p:cNvPicPr/>
          <p:nvPr/>
        </p:nvPicPr>
        <p:blipFill>
          <a:blip r:embed="rId2"/>
          <a:stretch/>
        </p:blipFill>
        <p:spPr>
          <a:xfrm>
            <a:off x="762120" y="858960"/>
            <a:ext cx="3286080" cy="433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2"/>
          <p:cNvSpPr/>
          <p:nvPr/>
        </p:nvSpPr>
        <p:spPr>
          <a:xfrm>
            <a:off x="6248520" y="609480"/>
            <a:ext cx="220968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8" descr="C:\Users\gary\AppData\Local\Microsoft\Windows\Temporary Internet Files\Content.IE5\KPRRPU1U\MC900410597[1].wmf"/>
          <p:cNvPicPr/>
          <p:nvPr/>
        </p:nvPicPr>
        <p:blipFill>
          <a:blip r:embed="rId3"/>
          <a:stretch/>
        </p:blipFill>
        <p:spPr>
          <a:xfrm>
            <a:off x="6324480" y="685800"/>
            <a:ext cx="951120" cy="99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Users\gary\AppData\Local\Microsoft\Windows\Temporary Internet Files\Content.IE5\FINVI7XY\MM900236487[1].gif"/>
          <p:cNvPicPr/>
          <p:nvPr/>
        </p:nvPicPr>
        <p:blipFill>
          <a:blip r:embed="rId4"/>
          <a:stretch/>
        </p:blipFill>
        <p:spPr>
          <a:xfrm>
            <a:off x="5029200" y="533520"/>
            <a:ext cx="1484280" cy="15858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3"/>
          <p:cNvSpPr/>
          <p:nvPr/>
        </p:nvSpPr>
        <p:spPr>
          <a:xfrm>
            <a:off x="7391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lackadder ITC"/>
              </a:rPr>
              <a:t>By All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9" descr="C:\Users\gary\AppData\Local\Microsoft\Windows\Temporary Internet Files\Content.IE5\KPRRPU1U\MC900410609[1].wmf"/>
          <p:cNvPicPr/>
          <p:nvPr/>
        </p:nvPicPr>
        <p:blipFill>
          <a:blip r:embed="rId5"/>
          <a:stretch/>
        </p:blipFill>
        <p:spPr>
          <a:xfrm>
            <a:off x="7543800" y="685800"/>
            <a:ext cx="587520" cy="633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C:\Users\gary\AppData\Local\Microsoft\Windows\Temporary Internet Files\Content.IE5\KPRRPU1U\MM900283915[1].gif"/>
          <p:cNvPicPr/>
          <p:nvPr/>
        </p:nvPicPr>
        <p:blipFill>
          <a:blip r:embed="rId6"/>
          <a:stretch/>
        </p:blipFill>
        <p:spPr>
          <a:xfrm>
            <a:off x="457200" y="2971800"/>
            <a:ext cx="1009800" cy="1219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C:\Users\gary\AppData\Local\Microsoft\Windows\Temporary Internet Files\Content.IE5\FINVI7XY\MM900283920[1].gif"/>
          <p:cNvPicPr/>
          <p:nvPr/>
        </p:nvPicPr>
        <p:blipFill>
          <a:blip r:embed="rId7"/>
          <a:stretch/>
        </p:blipFill>
        <p:spPr>
          <a:xfrm rot="306000">
            <a:off x="1981080" y="2742840"/>
            <a:ext cx="1119240" cy="156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C:\Users\gary\AppData\Local\Microsoft\Windows\Temporary Internet Files\Content.IE5\6R1U224W\MM900236493[1].gif"/>
          <p:cNvPicPr/>
          <p:nvPr/>
        </p:nvPicPr>
        <p:blipFill>
          <a:blip r:embed="rId8"/>
          <a:stretch/>
        </p:blipFill>
        <p:spPr>
          <a:xfrm>
            <a:off x="7391520" y="2590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28" descr=""/>
          <p:cNvPicPr/>
          <p:nvPr/>
        </p:nvPicPr>
        <p:blipFill>
          <a:blip r:embed="rId9"/>
          <a:stretch/>
        </p:blipFill>
        <p:spPr>
          <a:xfrm>
            <a:off x="457200" y="1852560"/>
            <a:ext cx="4730760" cy="982800"/>
          </a:xfrm>
          <a:prstGeom prst="rect">
            <a:avLst/>
          </a:prstGeom>
          <a:ln w="0">
            <a:noFill/>
          </a:ln>
        </p:spPr>
      </p:pic>
      <p:pic>
        <p:nvPicPr>
          <p:cNvPr id="123" name="TextBox 29" descr=""/>
          <p:cNvPicPr/>
          <p:nvPr/>
        </p:nvPicPr>
        <p:blipFill>
          <a:blip r:embed="rId10"/>
          <a:stretch/>
        </p:blipFill>
        <p:spPr>
          <a:xfrm>
            <a:off x="4876920" y="2286000"/>
            <a:ext cx="3663720" cy="98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C:\Users\gary\AppData\Local\Microsoft\Windows\Temporary Internet Files\Content.IE5\FINVI7XY\MM900356794[1].gif"/>
          <p:cNvPicPr/>
          <p:nvPr/>
        </p:nvPicPr>
        <p:blipFill>
          <a:blip r:embed="rId11"/>
          <a:stretch/>
        </p:blipFill>
        <p:spPr>
          <a:xfrm>
            <a:off x="4572000" y="518148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C:\Users\gary\AppData\Local\Microsoft\Windows\Temporary Internet Files\Content.IE5\6R1U224W\MM900365304[1].gif"/>
          <p:cNvPicPr/>
          <p:nvPr/>
        </p:nvPicPr>
        <p:blipFill>
          <a:blip r:embed="rId12"/>
          <a:stretch/>
        </p:blipFill>
        <p:spPr>
          <a:xfrm>
            <a:off x="3962520" y="46483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C:\Users\gary\AppData\Local\Microsoft\Windows\Temporary Internet Files\Content.IE5\JLQQ5FD0\MM900356787[2].gif"/>
          <p:cNvPicPr/>
          <p:nvPr/>
        </p:nvPicPr>
        <p:blipFill>
          <a:blip r:embed="rId13"/>
          <a:stretch/>
        </p:blipFill>
        <p:spPr>
          <a:xfrm>
            <a:off x="3048120" y="533412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33" descr=""/>
          <p:cNvPicPr/>
          <p:nvPr/>
        </p:nvPicPr>
        <p:blipFill>
          <a:blip r:embed="rId14"/>
          <a:stretch/>
        </p:blipFill>
        <p:spPr>
          <a:xfrm>
            <a:off x="762120" y="4668840"/>
            <a:ext cx="3968640" cy="98280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34" descr=""/>
          <p:cNvPicPr/>
          <p:nvPr/>
        </p:nvPicPr>
        <p:blipFill>
          <a:blip r:embed="rId15"/>
          <a:stretch/>
        </p:blipFill>
        <p:spPr>
          <a:xfrm>
            <a:off x="5967360" y="5450040"/>
            <a:ext cx="33526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b0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lowchart: Delay 11"/>
          <p:cNvSpPr/>
          <p:nvPr/>
        </p:nvSpPr>
        <p:spPr>
          <a:xfrm rot="16200000">
            <a:off x="2971800" y="2819160"/>
            <a:ext cx="1523880" cy="4267080"/>
          </a:xfrm>
          <a:prstGeom prst="flowChartDelay">
            <a:avLst/>
          </a:prstGeom>
          <a:solidFill>
            <a:srgbClr val="92d050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3880" y="304920"/>
            <a:ext cx="152640" cy="556236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791320" y="304920"/>
            <a:ext cx="152280" cy="556236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676520" y="304920"/>
            <a:ext cx="411480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676520" y="5715000"/>
            <a:ext cx="411480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600200" y="2971800"/>
            <a:ext cx="419112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3581280" y="380880"/>
            <a:ext cx="152640" cy="5486400"/>
          </a:xfrm>
          <a:prstGeom prst="rect">
            <a:avLst/>
          </a:prstGeom>
          <a:solidFill>
            <a:srgbClr val="969696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gary\AppData\Local\Microsoft\Windows\Temporary Internet Files\Content.IE5\FINVI7XY\MM900046652[1].gif"/>
          <p:cNvPicPr/>
          <p:nvPr/>
        </p:nvPicPr>
        <p:blipFill>
          <a:blip r:embed="rId1"/>
          <a:stretch/>
        </p:blipFill>
        <p:spPr>
          <a:xfrm>
            <a:off x="1905120" y="609480"/>
            <a:ext cx="1438200" cy="144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gary\AppData\Local\Microsoft\Windows\Temporary Internet Files\Content.IE5\6R1U224W\MM900354563[1].gif"/>
          <p:cNvPicPr/>
          <p:nvPr/>
        </p:nvPicPr>
        <p:blipFill>
          <a:blip r:embed="rId2"/>
          <a:stretch/>
        </p:blipFill>
        <p:spPr>
          <a:xfrm>
            <a:off x="4876920" y="4419720"/>
            <a:ext cx="565200" cy="62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gary\AppData\Local\Microsoft\Windows\Temporary Internet Files\Content.IE5\6R1U224W\MM900354563[1].gif"/>
          <p:cNvPicPr/>
          <p:nvPr/>
        </p:nvPicPr>
        <p:blipFill>
          <a:blip r:embed="rId3"/>
          <a:stretch/>
        </p:blipFill>
        <p:spPr>
          <a:xfrm>
            <a:off x="4495680" y="4419720"/>
            <a:ext cx="635040" cy="70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Users\gary\AppData\Local\Microsoft\Windows\Temporary Internet Files\Content.IE5\6R1U224W\MM900354563[1].gif"/>
          <p:cNvPicPr/>
          <p:nvPr/>
        </p:nvPicPr>
        <p:blipFill>
          <a:blip r:embed="rId4"/>
          <a:stretch/>
        </p:blipFill>
        <p:spPr>
          <a:xfrm>
            <a:off x="2819520" y="3962520"/>
            <a:ext cx="382320" cy="42516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18" descr=""/>
          <p:cNvPicPr/>
          <p:nvPr/>
        </p:nvPicPr>
        <p:blipFill>
          <a:blip r:embed="rId5"/>
          <a:stretch/>
        </p:blipFill>
        <p:spPr>
          <a:xfrm>
            <a:off x="5937120" y="1752480"/>
            <a:ext cx="32068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b0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Delay 10"/>
          <p:cNvSpPr/>
          <p:nvPr/>
        </p:nvSpPr>
        <p:spPr>
          <a:xfrm rot="16200000">
            <a:off x="6667560" y="1713960"/>
            <a:ext cx="1066680" cy="2667240"/>
          </a:xfrm>
          <a:prstGeom prst="flowChartDelay">
            <a:avLst/>
          </a:prstGeom>
          <a:solidFill>
            <a:srgbClr val="92d050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066680" y="838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haroni"/>
                <a:ea typeface="Aharoni"/>
              </a:rPr>
              <a:t>Alli looked out. She saw the bright sun. She saw the happy flowers bloom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haroni"/>
                <a:ea typeface="Aharoni"/>
              </a:rPr>
              <a:t>She turned to her toy box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867280" y="762120"/>
            <a:ext cx="266724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 rot="16200000">
            <a:off x="4610160" y="2171520"/>
            <a:ext cx="2666880" cy="15264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867280" y="3429000"/>
            <a:ext cx="266724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7"/>
          <p:cNvSpPr/>
          <p:nvPr/>
        </p:nvSpPr>
        <p:spPr>
          <a:xfrm rot="5400000">
            <a:off x="7124400" y="2095200"/>
            <a:ext cx="2667240" cy="15264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5867280" y="2133720"/>
            <a:ext cx="266724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9"/>
          <p:cNvSpPr/>
          <p:nvPr/>
        </p:nvSpPr>
        <p:spPr>
          <a:xfrm rot="5400000">
            <a:off x="5828760" y="2095560"/>
            <a:ext cx="2667240" cy="152280"/>
          </a:xfrm>
          <a:prstGeom prst="rect">
            <a:avLst/>
          </a:prstGeom>
          <a:solidFill>
            <a:srgbClr val="80808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gary\AppData\Local\Microsoft\Windows\Temporary Internet Files\Content.IE5\FINVI7XY\MM900046652[1].gif"/>
          <p:cNvPicPr/>
          <p:nvPr/>
        </p:nvPicPr>
        <p:blipFill>
          <a:blip r:embed="rId1"/>
          <a:stretch/>
        </p:blipFill>
        <p:spPr>
          <a:xfrm>
            <a:off x="6095880" y="1066680"/>
            <a:ext cx="905040" cy="911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gary\AppData\Local\Microsoft\Windows\Temporary Internet Files\Content.IE5\6R1U224W\MM900354563[1].gif"/>
          <p:cNvPicPr/>
          <p:nvPr/>
        </p:nvPicPr>
        <p:blipFill>
          <a:blip r:embed="rId2"/>
          <a:stretch/>
        </p:blipFill>
        <p:spPr>
          <a:xfrm>
            <a:off x="6324480" y="2438280"/>
            <a:ext cx="360360" cy="400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gary\AppData\Local\Microsoft\Windows\Temporary Internet Files\Content.IE5\6R1U224W\MM900354563[1].gif"/>
          <p:cNvPicPr/>
          <p:nvPr/>
        </p:nvPicPr>
        <p:blipFill>
          <a:blip r:embed="rId3"/>
          <a:stretch/>
        </p:blipFill>
        <p:spPr>
          <a:xfrm>
            <a:off x="7620120" y="2590920"/>
            <a:ext cx="496800" cy="55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gary\AppData\Local\Microsoft\Windows\Temporary Internet Files\Content.IE5\6R1U224W\MM900354563[1].gif"/>
          <p:cNvPicPr/>
          <p:nvPr/>
        </p:nvPicPr>
        <p:blipFill>
          <a:blip r:embed="rId4"/>
          <a:stretch/>
        </p:blipFill>
        <p:spPr>
          <a:xfrm>
            <a:off x="7391520" y="2590920"/>
            <a:ext cx="565200" cy="62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Users\gary\AppData\Local\Microsoft\Windows\Temporary Internet Files\Content.IE5\6R1U224W\MM900283677[1].gif"/>
          <p:cNvPicPr/>
          <p:nvPr/>
        </p:nvPicPr>
        <p:blipFill>
          <a:blip r:embed="rId5"/>
          <a:stretch/>
        </p:blipFill>
        <p:spPr>
          <a:xfrm>
            <a:off x="533520" y="3276720"/>
            <a:ext cx="1893600" cy="123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Users\gary\AppData\Local\Microsoft\Windows\Temporary Internet Files\Content.IE5\JLQQ5FD0\MM900236492[1].gif"/>
          <p:cNvPicPr/>
          <p:nvPr/>
        </p:nvPicPr>
        <p:blipFill>
          <a:blip r:embed="rId6"/>
          <a:stretch/>
        </p:blipFill>
        <p:spPr>
          <a:xfrm>
            <a:off x="1523880" y="4876920"/>
            <a:ext cx="1524240" cy="1785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gary\AppData\Local\Microsoft\Windows\Temporary Internet Files\Content.IE5\FINVI7XY\MM900283634[1].gif"/>
          <p:cNvPicPr/>
          <p:nvPr/>
        </p:nvPicPr>
        <p:blipFill>
          <a:blip r:embed="rId7"/>
          <a:stretch/>
        </p:blipFill>
        <p:spPr>
          <a:xfrm>
            <a:off x="4419720" y="4724280"/>
            <a:ext cx="1676160" cy="11811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0"/>
          <p:cNvSpPr/>
          <p:nvPr/>
        </p:nvSpPr>
        <p:spPr>
          <a:xfrm>
            <a:off x="2133720" y="259092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haroni"/>
                <a:ea typeface="Aharoni"/>
              </a:rPr>
              <a:t>“</a:t>
            </a:r>
            <a:r>
              <a:rPr b="0" lang="en-US" sz="2400" spc="-1" strike="noStrike">
                <a:solidFill>
                  <a:srgbClr val="00b0f0"/>
                </a:solidFill>
                <a:latin typeface="Aharoni"/>
                <a:ea typeface="Aharoni"/>
              </a:rPr>
              <a:t>Sure it’s fun to swing, jump rope, and blow bubbles, but you can’t always do that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b0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1523880" y="380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haroni"/>
                <a:ea typeface="Aharoni"/>
              </a:rPr>
              <a:t>“</a:t>
            </a:r>
            <a:r>
              <a:rPr b="0" lang="en-US" sz="3600" spc="-1" strike="noStrike">
                <a:solidFill>
                  <a:srgbClr val="00b0f0"/>
                </a:solidFill>
                <a:latin typeface="Aharoni"/>
                <a:ea typeface="Aharoni"/>
              </a:rPr>
              <a:t>Even when it’s a rainy day, you have to make the most of it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1676520" y="28954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haroni"/>
                <a:ea typeface="Aharoni"/>
              </a:rPr>
              <a:t>She dug through her toy-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haroni"/>
                <a:ea typeface="Aharoni"/>
              </a:rPr>
              <a:t>And dug out another to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380880" y="4419720"/>
            <a:ext cx="79250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b0f0"/>
                </a:solidFill>
                <a:latin typeface="Aharoni"/>
                <a:ea typeface="Aharoni"/>
              </a:rPr>
              <a:t>The </a:t>
            </a:r>
            <a:r>
              <a:rPr b="0" lang="en-US" sz="13800" spc="-1" strike="noStrike">
                <a:solidFill>
                  <a:srgbClr val="ffffff"/>
                </a:solidFill>
                <a:latin typeface="Aharoni"/>
                <a:ea typeface="Aharoni"/>
              </a:rPr>
              <a:t>End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21:30:57Z</dcterms:created>
  <dc:creator>gary</dc:creator>
  <dc:description/>
  <dc:language>en-US</dc:language>
  <cp:lastModifiedBy>install</cp:lastModifiedBy>
  <dcterms:modified xsi:type="dcterms:W3CDTF">2012-04-13T16:10:07Z</dcterms:modified>
  <cp:revision>42</cp:revision>
  <dc:subject/>
  <dc:title>Slide 1</dc:title>
</cp:coreProperties>
</file>